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80480" y="655308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gaco protocol update - March 18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gaco protocol - 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team formed (authors of MGCP, MDCP, MGCP-modified) and has met over the past 3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nec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D working document in progress - will be available by end of next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Model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685800"/>
            <a:ext cx="4419360" cy="350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2952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362320"/>
            <a:ext cx="6858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3276720"/>
            <a:ext cx="6858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2362320"/>
            <a:ext cx="6858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724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5146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880" y="12193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419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Termination (can be TDM, RTP, ATM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xt connects terminations in a star fashion (mixing brid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ions can each mute on their own send, receive or 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instantiated RTP terminations exist only within a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M, ATM, IP and Default RTP terminations can exist outside a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ove a termination from one context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s are grouped per context in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mands in a transaction are either executed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failure, whole transaction fails, and the command that fails returns a reaso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and Commands - first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(TransactionId, ListOf:(ContextId, ListOf:(Command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(TerminationId, Tparams, Tsignals, T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(TerminationId, Tparams, Tsignals, T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(TerminationId, Tparams, Tsignals, T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(TerminationId, OriginContextId, Tparams, Tsignals, T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(TerminationId, RestartMode, RestartDel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(TerminationId, 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([ContextId,] [TerminationId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 needs no Context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, Notify, Audit can be used outside a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connection model and commands in a new Internet-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 this as a contribution to the SG16 Ma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editors: Fernando Cuervo, Christian Huitema, Brian Rosen, Paul Sijben, Keith Kelly, Eric Zimm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input from other SG16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3:05:16Z</dcterms:created>
  <dc:creator>Nancy Greene</dc:creator>
  <dc:description/>
  <dc:language>en-US</dc:language>
  <cp:lastModifiedBy>Nancy Greene</cp:lastModifiedBy>
  <dcterms:modified xsi:type="dcterms:W3CDTF">1999-03-17T21:26:58Z</dcterms:modified>
  <cp:revision>17</cp:revision>
  <dc:subject/>
  <dc:title>Goals</dc:title>
</cp:coreProperties>
</file>